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1EB-31DB-4664-8677-697DFDAF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063-3C85-4F95-9B6D-36CE431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B3B5B-CE97-446F-A5DF-33C38FB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22659-321C-4199-ABC2-3168E77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1AB5F-438C-4018-B0F9-3C75BF1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0B624-DA89-4F9F-8CFE-A2CC5E9D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8B967-3911-4BB6-8DF3-2187545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9EB72-002A-4E84-8369-0696782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4CE4D-C037-43D6-AA4D-67D5E2B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B372F-86D5-4674-98D1-ABB9C3EA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4F209-01BB-4377-B790-6251E473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8201E-9448-4F14-B63B-196A87A0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CF0-42BB-47F5-8A43-495F20A3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A3936-CB3B-488A-BC21-0673830B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FED37-D027-447E-A74F-4AE84CC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628B0-2405-41C0-88BF-043D24B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2EC46-C04A-4055-BB2F-CF397AE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63999-CA34-4591-9EAA-BF79F56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A9DF3-6D71-4636-A9FE-C4297E5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2C814-1450-48E3-84F6-842B362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392A1-8E62-4C81-8361-5BD8937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857A5-5DAA-4548-A6AC-45DA0A9A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CF70-6EDB-45E0-B06E-E297D176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510-31C9-4AD7-8C76-CA0E30C0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96346-EAC9-4C64-BB45-CD032677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684165-5FD6-4E1D-BC44-31958519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33145F-7D09-4DB3-BD99-FBD0686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344FF0-053A-4557-970C-A367925D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97480F-44AF-4FE2-A0A6-11D4EDF0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AAF16D-91A8-4BA3-A006-D1604ED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848A7A-0CD5-4DFD-94E4-AFCF188B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240229-9889-472C-97F9-6783CEA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02598B-43FB-430B-8C2D-7E4C18E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E7FFC6-8220-47C1-AC77-63E532E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4E9F63-B559-424C-B99C-5EEE757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9A79FF-C21E-4591-B23D-FCA03DFD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65ABBA-09CC-421E-A04C-BE11D45B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6C8D9-500C-4E02-A9FF-A9C14A9E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F73D4-7EF1-4116-A757-211A9A22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380CC-18F6-478C-9341-5FED91F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6606F-A682-42E0-B81C-D778C88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1B3E1-6E72-4283-A1B2-3B5FEF64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C916F-2A05-4DAC-A695-19F1B82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DF8A5-2FCC-4CF5-A669-64DAFBE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3962C-5E62-48F2-8861-CF94362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C4626-7862-4780-91B9-6516F7D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2B237-D7B9-46E7-B3D6-D176648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47F12-BEA1-42D0-B3B5-507BFB60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9B536-BA9F-47CB-98B5-314A776E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FC366E-7B8A-4E1E-AE2E-49E624F4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944BCA-645D-48E3-8514-4DD7DCFB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19F57C-F182-47C8-A33A-FAD71C2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3CAB18-A0C4-4ECE-9044-AF2AAD9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43B22D-0BC6-4314-9933-A0D2E411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4EEDA9-53D8-49B1-B9FF-BDE0865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0872CC-21CA-4630-9D38-E270C90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202785-8F3A-419D-892F-44C090C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6B9EE1-1CE9-48C1-B8DA-4161FA1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078216-5204-4FC8-8400-6A3D8D7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469242-7A21-4411-B19D-FE07A319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E4CEBF-833A-49FA-A5FB-8D8E4946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8F8D1-3788-4331-9290-AAEB6296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187CB-7BD3-4C77-AFE5-B02DED0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A34F4-5672-47D4-8ECF-B9B7AD7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49080-8004-4C13-BD99-E86B9B66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14B11-D0C9-4A9D-8B1D-058B9D4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7B923-C0F7-4BE0-98CA-F5EDB5C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6D21B-EDE8-4384-83FA-F65792C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D7A03-30DA-4F1B-A3F1-785F61D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CAD41-C9A4-44C0-A08A-767B362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4B58F-7AB8-48FF-B00D-4CFA4A16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47557-FA8C-47EC-AC74-883FD20D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B8816-5B14-4072-939C-B0704EC3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61175-6113-41E4-A533-0D8EA2BE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15CC3-9FB6-4415-8C56-1F43E32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DC5A4-55B7-4260-A299-5BE0579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E8B06-A194-44D1-B8B8-F29697C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F1B46-5EAC-43D2-9839-A0AE50D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58135-AFFF-47E9-A384-779A928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B9750-96A1-4841-A839-888F2ED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C6F04-D5CC-435C-83D3-27E40A4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9EA48-CCFF-45E0-8094-2373300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A3F39-C083-4F6E-A9B1-7F36EBDE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64E7A-E47D-4929-8427-93EB8F7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13ADD-DC7F-4786-BE87-45304209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3CE15-683B-4698-9453-CDD3BC69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75F8D-F679-40ED-AF2E-B57B404F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A346D-86F9-4806-906E-1C4E3C5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C5DD4-DC33-4312-80DA-9ED4FCA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82F49-9D02-4E0D-8A81-5D517AB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EB64F-779B-44D4-9B87-A41810C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ECEEF-3892-4AC1-8140-02385B3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901-38C5-471A-BD57-819ACBF4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A5C67-E27F-45FB-A3A7-9FA21F1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B6EC9-AF26-421C-9F5F-BB23AF8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00EE4-89C1-42FD-B829-5F8FC9B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C03B4-4377-48EC-9BD2-24D59700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D00EB-819F-4F7E-AC58-B4C4F585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23A17-9D1C-44D6-AE6D-270CE7AB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BBF51-6247-4A23-95A4-8715CFD7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17C26-C9C9-4177-A119-F4F8BEA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0F441-F9E8-47D4-ABA1-1B7B953C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ADFEE-C8D1-4743-8167-89787B48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69F9C-2E2F-4121-86E8-14F91AC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4E381-F4BD-4CFF-A8FD-4B109EF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C938C-B1B7-4897-8191-3B8A2DF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3B60C-142F-4289-8DFA-F7EE19C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6EB16-1A5F-4C74-9463-556CEED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81F1C-D082-4C4F-B52E-B7401E07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253FD-64E0-474A-A13E-C93916C6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EEB07-8BB5-454B-9939-682DD82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35A5C-2BD6-41B8-AB41-BB764CD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51F71-3810-4DC2-B7A9-5009B35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4E5DF-6431-4D1A-9FC7-096DC80C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1F701-261F-4314-8098-65E1EB1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ED798-DC08-4784-8E42-F876D02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F3D87-4E70-40A7-9B04-FF1F5948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1CAFE-A1B1-42F9-B350-14530E9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F6CC6-E5C6-4FA3-84D0-7ABB660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97D83-5C38-49F0-A9F9-E357BDE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9BFF9-60DA-4FBC-B52C-9925A009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87E6E-31C2-43AA-B705-AD473636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B1E4B-FAFF-4C4F-ABB4-72C6824F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2FED4-F565-4021-A764-3450253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85045-2D49-4797-8654-F642C5FB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9FB90-384D-4C18-B647-B50E3F9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155C5-2AC2-4EDE-AAEC-80DAF585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C3D79-3641-4BC5-988B-803DAC8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FF070-2BBA-4DFE-9ED8-CD89241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32423-6A99-4467-BE48-83DDBCE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23446-0633-453F-8792-7EBD907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3E7BD-D98F-4029-AD8E-20ABC6C0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A6F43-B385-4DB9-A53F-34D228EA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A3A1B-D71E-4092-BA56-DB5076B3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EB5D6-9CED-4AFC-8059-41BE6FD3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26EC2-E15C-4ACB-AF08-3DC1E6C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CA868-2DD9-40C2-B7EA-A213E4F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2C294-F166-475F-8BE6-A767AD1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656D3-4B0B-4DF0-A9E6-3EDE5CFA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A7765-2FCC-4005-9408-5DD1702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3DE00-1818-4572-909A-189B8CE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0DC7D-5BEE-4B84-A831-4CD5055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34CDE-D3ED-4C8D-9CFF-0EA8064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A9FF4-CC75-44A7-A118-42C3A87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F9C8A-C632-4D88-910F-8F2D9C7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2AF37-7827-4A8D-ACD5-624B8865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88F2E-D4F1-4C32-9842-95F7E2BA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C83E0-1FF2-4DF7-9C11-F6B09EFF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C6B16-EFE9-4BD4-95CC-DD32D004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CDE59-C7DF-4195-8BD9-52B5F68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AB493-5B5A-44B4-9127-FB33CB66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A36-4FB4-47FB-924E-9C8F621B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7ADB-07A9-4D38-BCA7-EC3B3C33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590FE-7914-49E5-B171-E9228506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33DE-C2E2-4CFE-9B0E-CECC1AC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53168-C70F-49DF-8901-9113954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3A39E-93EA-4AAC-9BC4-557A162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C9FD3-2331-4867-B95C-AE8AB69A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626AF-6576-43F5-95A1-8F0860B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3F618-1009-405E-B4C9-51654FC5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69F6A-53AB-40C8-B9F7-44C0E78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641F2-D5BB-4171-8410-0B701D0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F44-1835-47B0-8322-D80A920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42D2A-8EAE-4DB0-A097-13CA90C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A7409-9896-4782-BE59-72513E0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0A90F-B7CF-4D17-AF5B-26E21A07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B3B30-B517-46AF-8930-84594A3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795E1-57B8-4009-8643-F14D9DC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882B8-8E36-45DE-B9DC-259772D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29754-A190-4E9F-A5EF-F64FC806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AF610-F8FA-4C9F-994A-147C3A4F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528D8-1B0A-4EE5-B521-0FE83F1C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41E-B9D9-402F-A618-26B97FF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030-2A2D-4DD5-B9A0-F35E837F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80E92-519C-4443-96E1-4C06CC77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C56D02-6830-4A32-B056-1BFA7A85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CE7741-AFFC-4932-9229-6D99EAF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C7443-DFD0-40D3-914A-ED33B994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68C97-BD41-46C5-9B68-09A36640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DF0AA-86DA-4ADB-92F2-B31C389C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FC08E-8A98-4EC1-B822-C1B661C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4A4B1-869B-4CAB-A653-EDD7376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910F9-E50D-4097-999D-0D0A1A2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50F-9E10-42A1-9235-4B4BD95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368553-B9F1-4456-A2AB-1468F8B1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85C32A-0ACB-4CDD-9277-B5C935BA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07B5B-066F-4900-B951-38B7A129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3BBD5-4245-40A1-B79B-72EB11C1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6D2FCF-D693-4831-B69F-F63B5784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4C3881-46CA-4A38-9EA8-DD640879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A88D4-150A-4216-81FA-D28B6644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FC16A-24B7-4284-B4B1-FC44014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2D867-F6A2-4F84-B948-8CD888B4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11967E-521C-4D5D-9190-FF6DEB1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4F0-6745-44D1-B454-3BDD8A2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8A2CF1-9DA1-4D2A-8B52-61242D2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FA315A-0575-42A7-8B0A-2DBD4AD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6CE08A-2235-4847-91FA-DF6E1CEA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5390B-781E-4C9F-884F-CC67EC48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A9A75-176E-48B7-9717-D373DD34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F40CC-6D50-4DC5-AB22-0945F6E5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E189D-2F81-4924-8826-BB1A23D5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745789-AF5E-46E7-9F20-97BAA59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B06A7-4489-4C71-94E1-F763708B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E504D-A72A-4B3E-AB51-15C407F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A81-4A97-4DEF-AC7A-32CA77B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02F95-3CAF-4F91-97C8-160E3020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421A4-5BC7-4BB6-B655-90023FC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FE681-7C03-419D-898F-3048109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508E9-4F2E-40F4-8265-203DC2B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A2D8AF-1453-4B34-9423-C0E33E6D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6F3CE2-3A7F-4D12-B676-1ED2D60D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2CEE6-B1E6-40B9-A5D9-2B445E4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C932A-539D-47DB-BE84-A1BC4C2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AEE71-87C4-47C0-B3FB-73C1362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E9FCA-1385-4607-BC02-03E23089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6F79-E5D4-40AC-ACCD-8EEB2071020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D7AE-EAD7-4F42-B5C8-B40215A48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D34-39A3-4850-BF54-298D47660591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816-6C85-4464-8E51-74D16A44A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EBC4-D733-4117-ABB2-C90F78A3635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2EF-1C6F-47A3-A34F-34BC8D38A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157-5FD9-4BBC-BECC-5AADA6CE102E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7EE-F59C-4776-A5B7-E3AEB323B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B8F-F934-4C96-A115-4F4689D43B8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1BF-1FA2-4312-BF52-7E4F70D72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D0FB-9583-4D61-BF81-D5BB431AB61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9B2-D2C5-4047-A291-AB9CB37584A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C65E-7D8C-46C7-81A8-7160C8CDC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E96-41E3-4167-A9CA-9682492F822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39CC-268D-4953-8D3F-13A1AF702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B492-B8D2-4177-9104-00EC2B3186E1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1527-007B-45A2-9A32-E74B6A870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6C3F-DF4C-4FA3-B320-959946B53CE0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82B4-A980-454B-9120-A5161CE4F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11C-0DE4-4296-BDBA-418CBEBB378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F4D-3360-4616-81B6-94D8442F8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49E-831F-48FA-BE99-23D3DDD1E5E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CB7A-014C-45AC-BD93-D70F57DA5B8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E50-8DB2-4531-A13C-CE6A7AF4C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2622-3B72-4057-9366-4DEDE0009C5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16C-F735-42A1-92B4-C6C65A2E0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C078-ECEF-40DF-BAFA-F27442A253F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F54A-2106-4E8C-ABE3-4CFEC688A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08E-511F-4FB1-B14A-CFE25D14F2C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567-6FBC-493A-967A-D66C08898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CD24-613F-4C4A-B26F-6D49EC42C18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ED9B-16F0-4176-8736-26BB719B835D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EF56-80A2-4D82-81FE-0B4CF93B5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7C2D-9E28-407C-95FB-EADB889B113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E974-CEFF-42EE-8106-90CCE25F7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6525-AA5F-405E-AB4C-12597A246C9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F9C-8A01-46F5-ABF3-6248A7A58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1413-DC8E-4144-A542-F643B600B80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D87-139A-4F5A-8247-162E475A8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480024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66"/>
                </a:solidFill>
                <a:latin typeface="Rockwell"/>
              </a:rPr>
              <a:t>Writing Off and Collecting Accounts Receivable</a:t>
            </a:r>
            <a:endParaRPr b="0" lang="en-US" sz="3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837720"/>
            <a:ext cx="7556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When an account is determined uncollectable, a journal entry must be made to cancel the account. 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870b8"/>
                </a:solidFill>
                <a:latin typeface="Rockwell"/>
              </a:rPr>
              <a:t>(Both the General Ledger and Accounts Receivable Subsidiary Ledger)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This transaction is referred to as </a:t>
            </a:r>
            <a:r>
              <a:rPr b="1" lang="en-US" sz="2100" spc="-1" strike="noStrike" u="sng">
                <a:solidFill>
                  <a:srgbClr val="772399"/>
                </a:solidFill>
                <a:uFillTx/>
                <a:latin typeface="Rockwell"/>
              </a:rPr>
              <a:t>Writing off an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2399"/>
                </a:solidFill>
                <a:latin typeface="Rockwell"/>
              </a:rPr>
              <a:t>This amount is now an </a:t>
            </a:r>
            <a:r>
              <a:rPr b="1" lang="en-US" sz="2100" spc="-1" strike="noStrike" u="sng">
                <a:solidFill>
                  <a:srgbClr val="772399"/>
                </a:solidFill>
                <a:uFillTx/>
                <a:latin typeface="Rockwell"/>
              </a:rPr>
              <a:t>ACTUAL</a:t>
            </a:r>
            <a:r>
              <a:rPr b="1" lang="en-US" sz="2100" spc="-1" strike="noStrike">
                <a:solidFill>
                  <a:srgbClr val="772399"/>
                </a:solidFill>
                <a:latin typeface="Rockwell"/>
              </a:rPr>
              <a:t> uncollectable am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Rockwell"/>
              </a:rPr>
              <a:t>This amount is then deducted from the Allowance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Rockwell"/>
              </a:rPr>
              <a:t>Accounts Receivable / (Customer Account) are credited to reduce the balance or to cancel the debit balance of the account.</a:t>
            </a: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760" y="256680"/>
            <a:ext cx="82310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JOURNALIZING WRITING OFF AN UNCOLLECTIBLE ACCOUNT RECEIVAB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3" name="Picture 4" descr="D:\C21 PowerPoint\Multi_Journal\art for blue\Ch20\Ch20-02a.jpg"/>
          <p:cNvPicPr/>
          <p:nvPr/>
        </p:nvPicPr>
        <p:blipFill>
          <a:blip r:embed="rId1"/>
          <a:srcRect l="28028" t="0" r="662" b="82973"/>
          <a:stretch/>
        </p:blipFill>
        <p:spPr>
          <a:xfrm>
            <a:off x="422280" y="2392200"/>
            <a:ext cx="8264520" cy="22384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7344360" y="7420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"/>
          <p:cNvSpPr/>
          <p:nvPr/>
        </p:nvSpPr>
        <p:spPr>
          <a:xfrm>
            <a:off x="5791320" y="3382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7"/>
          <p:cNvSpPr/>
          <p:nvPr/>
        </p:nvSpPr>
        <p:spPr>
          <a:xfrm>
            <a:off x="7772400" y="4414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8"/>
          <p:cNvSpPr/>
          <p:nvPr/>
        </p:nvSpPr>
        <p:spPr>
          <a:xfrm>
            <a:off x="2819520" y="4414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514440" y="5075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514440" y="54403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and Customer’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3"/>
          <p:cNvSpPr/>
          <p:nvPr/>
        </p:nvSpPr>
        <p:spPr>
          <a:xfrm>
            <a:off x="5486400" y="226224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redit amount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1360" y="167760"/>
            <a:ext cx="82314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3366"/>
                </a:solidFill>
                <a:latin typeface="Rockwell"/>
              </a:rPr>
              <a:t>POSTING AN ENTRY TO WRITE OFF AN UNCOLLECTIBLE ACCOUNT RECEIVABLE</a:t>
            </a:r>
            <a:endParaRPr b="0" lang="en-US" sz="29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22" name="Picture 4" descr="D:\C21 PowerPoint\Multi_Journal\art for blue\Ch20\Ch20-02b.jpg"/>
          <p:cNvPicPr/>
          <p:nvPr/>
        </p:nvPicPr>
        <p:blipFill>
          <a:blip r:embed="rId1"/>
          <a:srcRect l="22756" t="0" r="0" b="37492"/>
          <a:stretch/>
        </p:blipFill>
        <p:spPr>
          <a:xfrm>
            <a:off x="457200" y="1523880"/>
            <a:ext cx="4915080" cy="510552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5"/>
          <p:cNvSpPr/>
          <p:nvPr/>
        </p:nvSpPr>
        <p:spPr>
          <a:xfrm>
            <a:off x="7344360" y="65523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2286000" y="6400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5486400" y="292896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redit amount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5486400" y="16002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ost debit amount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486400" y="3598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ritten of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Group 19"/>
          <p:cNvGrpSpPr/>
          <p:nvPr/>
        </p:nvGrpSpPr>
        <p:grpSpPr>
          <a:xfrm>
            <a:off x="3124080" y="2438280"/>
            <a:ext cx="990720" cy="2819520"/>
            <a:chOff x="3124080" y="2438280"/>
            <a:chExt cx="990720" cy="2819520"/>
          </a:xfrm>
        </p:grpSpPr>
        <p:sp>
          <p:nvSpPr>
            <p:cNvPr id="929" name="Line 15"/>
            <p:cNvSpPr/>
            <p:nvPr/>
          </p:nvSpPr>
          <p:spPr>
            <a:xfrm flipH="1">
              <a:off x="3124080" y="2438280"/>
              <a:ext cx="990720" cy="2819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6"/>
            <p:cNvSpPr/>
            <p:nvPr/>
          </p:nvSpPr>
          <p:spPr>
            <a:xfrm>
              <a:off x="3352680" y="41907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18"/>
          <p:cNvGrpSpPr/>
          <p:nvPr/>
        </p:nvGrpSpPr>
        <p:grpSpPr>
          <a:xfrm>
            <a:off x="3429000" y="2590920"/>
            <a:ext cx="1295280" cy="1295280"/>
            <a:chOff x="3429000" y="2590920"/>
            <a:chExt cx="1295280" cy="1295280"/>
          </a:xfrm>
        </p:grpSpPr>
        <p:sp>
          <p:nvSpPr>
            <p:cNvPr id="932" name="Line 14"/>
            <p:cNvSpPr/>
            <p:nvPr/>
          </p:nvSpPr>
          <p:spPr>
            <a:xfrm flipH="1">
              <a:off x="3429000" y="2590920"/>
              <a:ext cx="1295280" cy="1295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9"/>
            <p:cNvSpPr/>
            <p:nvPr/>
          </p:nvSpPr>
          <p:spPr>
            <a:xfrm>
              <a:off x="4191120" y="2666880"/>
              <a:ext cx="457200" cy="456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21"/>
          <p:cNvGrpSpPr/>
          <p:nvPr/>
        </p:nvGrpSpPr>
        <p:grpSpPr>
          <a:xfrm>
            <a:off x="4419720" y="2590560"/>
            <a:ext cx="533160" cy="3809880"/>
            <a:chOff x="4419720" y="2590560"/>
            <a:chExt cx="533160" cy="3809880"/>
          </a:xfrm>
        </p:grpSpPr>
        <p:sp>
          <p:nvSpPr>
            <p:cNvPr id="935" name="Line 17"/>
            <p:cNvSpPr/>
            <p:nvPr/>
          </p:nvSpPr>
          <p:spPr>
            <a:xfrm flipV="1">
              <a:off x="4419720" y="2590560"/>
              <a:ext cx="457200" cy="3809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7"/>
            <p:cNvSpPr/>
            <p:nvPr/>
          </p:nvSpPr>
          <p:spPr>
            <a:xfrm>
              <a:off x="4495680" y="3657600"/>
              <a:ext cx="457200" cy="4568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opening An Account Previously Written Off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366840" y="2133720"/>
            <a:ext cx="831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 customer will pay on a account that has been written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Journal Entries are recorded for the collection of a written off account receiv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A general journal entry to reopen the customer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A cash receipts journal entry to record the cash receiv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OPENING AN ACCOUNT PREVIOUSLY WRITTEN OFF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40" name="Picture 4" descr="D:\C21 PowerPoint\Multi_Journal\art for blue\Ch20\Ch20-02c.jpg"/>
          <p:cNvPicPr/>
          <p:nvPr/>
        </p:nvPicPr>
        <p:blipFill>
          <a:blip r:embed="rId1"/>
          <a:srcRect l="28028" t="0" r="668" b="73390"/>
          <a:stretch/>
        </p:blipFill>
        <p:spPr>
          <a:xfrm>
            <a:off x="457200" y="2163600"/>
            <a:ext cx="8229600" cy="3483000"/>
          </a:xfrm>
          <a:prstGeom prst="rect">
            <a:avLst/>
          </a:prstGeom>
          <a:ln w="0">
            <a:noFill/>
          </a:ln>
        </p:spPr>
      </p:pic>
      <p:sp>
        <p:nvSpPr>
          <p:cNvPr id="941" name="Text Box 5"/>
          <p:cNvSpPr/>
          <p:nvPr/>
        </p:nvSpPr>
        <p:spPr>
          <a:xfrm>
            <a:off x="7344360" y="71920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7"/>
          <p:cNvSpPr/>
          <p:nvPr/>
        </p:nvSpPr>
        <p:spPr>
          <a:xfrm>
            <a:off x="777240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514440" y="574524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and Customer’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0"/>
          <p:cNvSpPr/>
          <p:nvPr/>
        </p:nvSpPr>
        <p:spPr>
          <a:xfrm>
            <a:off x="514440" y="6110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13"/>
          <p:cNvGrpSpPr/>
          <p:nvPr/>
        </p:nvGrpSpPr>
        <p:grpSpPr>
          <a:xfrm>
            <a:off x="4267080" y="2163600"/>
            <a:ext cx="2819520" cy="1371600"/>
            <a:chOff x="4267080" y="2163600"/>
            <a:chExt cx="2819520" cy="1371600"/>
          </a:xfrm>
        </p:grpSpPr>
        <p:sp>
          <p:nvSpPr>
            <p:cNvPr id="946" name="Line 11"/>
            <p:cNvSpPr/>
            <p:nvPr/>
          </p:nvSpPr>
          <p:spPr>
            <a:xfrm>
              <a:off x="6934320" y="2620800"/>
              <a:ext cx="0" cy="914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2"/>
            <p:cNvSpPr/>
            <p:nvPr/>
          </p:nvSpPr>
          <p:spPr>
            <a:xfrm flipH="1">
              <a:off x="4267080" y="2468520"/>
              <a:ext cx="24386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6553080" y="2163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73"/>
          <p:cNvSpPr/>
          <p:nvPr/>
        </p:nvSpPr>
        <p:spPr>
          <a:xfrm>
            <a:off x="579600" y="5105520"/>
            <a:ext cx="429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049480"/>
                <a:tab algn="dec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74"/>
          <p:cNvSpPr/>
          <p:nvPr/>
        </p:nvSpPr>
        <p:spPr>
          <a:xfrm>
            <a:off x="4853160" y="4021200"/>
            <a:ext cx="429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2049480"/>
                <a:tab algn="dec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2049480"/>
                <a:tab algn="dec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ew Bal.      ze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9"/>
          <p:cNvGrpSpPr/>
          <p:nvPr/>
        </p:nvGrpSpPr>
        <p:grpSpPr>
          <a:xfrm>
            <a:off x="4495680" y="2854440"/>
            <a:ext cx="4648320" cy="1619280"/>
            <a:chOff x="4495680" y="2854440"/>
            <a:chExt cx="4648320" cy="1619280"/>
          </a:xfrm>
        </p:grpSpPr>
        <p:sp>
          <p:nvSpPr>
            <p:cNvPr id="952" name="Text Box 63"/>
            <p:cNvSpPr/>
            <p:nvPr/>
          </p:nvSpPr>
          <p:spPr>
            <a:xfrm>
              <a:off x="4846680" y="4010040"/>
              <a:ext cx="42973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365120"/>
                  <a:tab algn="l" pos="2049480"/>
                  <a:tab algn="dec" pos="3432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Jan. 29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462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72"/>
            <p:cNvGrpSpPr/>
            <p:nvPr/>
          </p:nvGrpSpPr>
          <p:grpSpPr>
            <a:xfrm>
              <a:off x="4495680" y="2854440"/>
              <a:ext cx="4648320" cy="1619280"/>
              <a:chOff x="4495680" y="2854440"/>
              <a:chExt cx="4648320" cy="1619280"/>
            </a:xfrm>
          </p:grpSpPr>
          <p:sp>
            <p:nvSpPr>
              <p:cNvPr id="954" name="Text Box 62"/>
              <p:cNvSpPr/>
              <p:nvPr/>
            </p:nvSpPr>
            <p:spPr>
              <a:xfrm>
                <a:off x="4846680" y="3768840"/>
                <a:ext cx="429732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365120"/>
                    <a:tab algn="l" pos="2049480"/>
                    <a:tab algn="dec" pos="34322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462.00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Jan. 3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462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" name="Group 70"/>
              <p:cNvGrpSpPr/>
              <p:nvPr/>
            </p:nvGrpSpPr>
            <p:grpSpPr>
              <a:xfrm>
                <a:off x="4495680" y="2854440"/>
                <a:ext cx="4343400" cy="1619280"/>
                <a:chOff x="4495680" y="2854440"/>
                <a:chExt cx="4343400" cy="1619280"/>
              </a:xfrm>
            </p:grpSpPr>
            <p:sp>
              <p:nvSpPr>
                <p:cNvPr id="956" name="Text Box 13"/>
                <p:cNvSpPr/>
                <p:nvPr/>
              </p:nvSpPr>
              <p:spPr>
                <a:xfrm>
                  <a:off x="4495680" y="2854440"/>
                  <a:ext cx="434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cc0000"/>
                      </a:solidFill>
                      <a:latin typeface="Arial"/>
                    </a:rPr>
                    <a:t>ACCOUNTS RECEIVABLE LED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Group 68"/>
                <p:cNvGrpSpPr/>
                <p:nvPr/>
              </p:nvGrpSpPr>
              <p:grpSpPr>
                <a:xfrm>
                  <a:off x="4876920" y="3087720"/>
                  <a:ext cx="3659040" cy="1386000"/>
                  <a:chOff x="4876920" y="3087720"/>
                  <a:chExt cx="3659040" cy="1386000"/>
                </a:xfrm>
              </p:grpSpPr>
              <p:sp>
                <p:nvSpPr>
                  <p:cNvPr id="958" name="Text Box 17"/>
                  <p:cNvSpPr/>
                  <p:nvPr/>
                </p:nvSpPr>
                <p:spPr>
                  <a:xfrm>
                    <a:off x="5974200" y="3087720"/>
                    <a:ext cx="1422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ennis Castl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9" name="Group 67"/>
                  <p:cNvGrpSpPr/>
                  <p:nvPr/>
                </p:nvGrpSpPr>
                <p:grpSpPr>
                  <a:xfrm>
                    <a:off x="4876920" y="3559320"/>
                    <a:ext cx="3659040" cy="914400"/>
                    <a:chOff x="4876920" y="3559320"/>
                    <a:chExt cx="3659040" cy="914400"/>
                  </a:xfrm>
                </p:grpSpPr>
                <p:sp>
                  <p:nvSpPr>
                    <p:cNvPr id="960" name="Line 19"/>
                    <p:cNvSpPr/>
                    <p:nvPr/>
                  </p:nvSpPr>
                  <p:spPr>
                    <a:xfrm>
                      <a:off x="4876920" y="3559320"/>
                      <a:ext cx="365904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Line 20"/>
                    <p:cNvSpPr/>
                    <p:nvPr/>
                  </p:nvSpPr>
                  <p:spPr>
                    <a:xfrm>
                      <a:off x="6707160" y="3559320"/>
                      <a:ext cx="0" cy="91440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RECORDING CASH RECEIVED FOR AN ACCOUNT PREVIOUSLY WRITTEN OFF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Text Box 3"/>
          <p:cNvSpPr/>
          <p:nvPr/>
        </p:nvSpPr>
        <p:spPr>
          <a:xfrm>
            <a:off x="228600" y="1143000"/>
            <a:ext cx="8458200" cy="580680"/>
          </a:xfrm>
          <a:prstGeom prst="rect">
            <a:avLst/>
          </a:prstGeom>
          <a:gradFill rotWithShape="0">
            <a:gsLst>
              <a:gs pos="0">
                <a:srgbClr val="bc5fb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29. Received cash in full payment of Ryan Recreation’s account, previously written off as uncollectible, $462.00. Memorandum No. 3 and Receipt No. 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457200" y="194616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7373880" y="1940040"/>
            <a:ext cx="129528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6"/>
          <p:cNvSpPr/>
          <p:nvPr/>
        </p:nvSpPr>
        <p:spPr>
          <a:xfrm>
            <a:off x="5697360" y="194616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639960" y="194616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457200" y="376560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. 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2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9"/>
          <p:cNvSpPr/>
          <p:nvPr/>
        </p:nvSpPr>
        <p:spPr>
          <a:xfrm>
            <a:off x="215280" y="36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0"/>
          <p:cNvSpPr/>
          <p:nvPr/>
        </p:nvSpPr>
        <p:spPr>
          <a:xfrm flipV="1">
            <a:off x="8597160" y="362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4816440" y="3551400"/>
            <a:ext cx="37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496800" y="3551400"/>
            <a:ext cx="41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9"/>
          <p:cNvSpPr/>
          <p:nvPr/>
        </p:nvSpPr>
        <p:spPr>
          <a:xfrm>
            <a:off x="496800" y="4530600"/>
            <a:ext cx="41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30"/>
          <p:cNvSpPr/>
          <p:nvPr/>
        </p:nvSpPr>
        <p:spPr>
          <a:xfrm flipV="1">
            <a:off x="4633200" y="487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77"/>
          <p:cNvGrpSpPr/>
          <p:nvPr/>
        </p:nvGrpSpPr>
        <p:grpSpPr>
          <a:xfrm>
            <a:off x="46080" y="2895480"/>
            <a:ext cx="4754520" cy="2971800"/>
            <a:chOff x="46080" y="2895480"/>
            <a:chExt cx="4754520" cy="2971800"/>
          </a:xfrm>
        </p:grpSpPr>
        <p:sp>
          <p:nvSpPr>
            <p:cNvPr id="976" name="Text Box 61"/>
            <p:cNvSpPr/>
            <p:nvPr/>
          </p:nvSpPr>
          <p:spPr>
            <a:xfrm>
              <a:off x="122040" y="5103720"/>
              <a:ext cx="42973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dec" pos="1600200"/>
                  <a:tab algn="l" pos="2049480"/>
                  <a:tab algn="dec" pos="3773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Jan. 29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</a:rPr>
                <a:t>462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71"/>
            <p:cNvGrpSpPr/>
            <p:nvPr/>
          </p:nvGrpSpPr>
          <p:grpSpPr>
            <a:xfrm>
              <a:off x="46080" y="2895480"/>
              <a:ext cx="4754520" cy="2971800"/>
              <a:chOff x="46080" y="2895480"/>
              <a:chExt cx="4754520" cy="2971800"/>
            </a:xfrm>
          </p:grpSpPr>
          <p:grpSp>
            <p:nvGrpSpPr>
              <p:cNvPr id="978" name="Group 69"/>
              <p:cNvGrpSpPr/>
              <p:nvPr/>
            </p:nvGrpSpPr>
            <p:grpSpPr>
              <a:xfrm>
                <a:off x="380880" y="2895480"/>
                <a:ext cx="4281120" cy="2383920"/>
                <a:chOff x="380880" y="2895480"/>
                <a:chExt cx="4281120" cy="2383920"/>
              </a:xfrm>
            </p:grpSpPr>
            <p:sp>
              <p:nvSpPr>
                <p:cNvPr id="979" name="Text Box 32"/>
                <p:cNvSpPr/>
                <p:nvPr/>
              </p:nvSpPr>
              <p:spPr>
                <a:xfrm>
                  <a:off x="1341360" y="2895480"/>
                  <a:ext cx="2314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cc0000"/>
                      </a:solidFill>
                      <a:latin typeface="Arial"/>
                    </a:rPr>
                    <a:t>GENERAL LED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0" name="Group 33"/>
                <p:cNvGrpSpPr/>
                <p:nvPr/>
              </p:nvGrpSpPr>
              <p:grpSpPr>
                <a:xfrm>
                  <a:off x="380880" y="3109680"/>
                  <a:ext cx="4266360" cy="1004760"/>
                  <a:chOff x="380880" y="3109680"/>
                  <a:chExt cx="4266360" cy="1004760"/>
                </a:xfrm>
              </p:grpSpPr>
              <p:sp>
                <p:nvSpPr>
                  <p:cNvPr id="981" name="Text Box 34"/>
                  <p:cNvSpPr/>
                  <p:nvPr/>
                </p:nvSpPr>
                <p:spPr>
                  <a:xfrm>
                    <a:off x="2008800" y="3109680"/>
                    <a:ext cx="6548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as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2" name="Group 35"/>
                  <p:cNvGrpSpPr/>
                  <p:nvPr/>
                </p:nvGrpSpPr>
                <p:grpSpPr>
                  <a:xfrm>
                    <a:off x="380880" y="3580920"/>
                    <a:ext cx="4266360" cy="533520"/>
                    <a:chOff x="380880" y="3580920"/>
                    <a:chExt cx="4266360" cy="533520"/>
                  </a:xfrm>
                </p:grpSpPr>
                <p:sp>
                  <p:nvSpPr>
                    <p:cNvPr id="983" name="Line 36"/>
                    <p:cNvSpPr/>
                    <p:nvPr/>
                  </p:nvSpPr>
                  <p:spPr>
                    <a:xfrm>
                      <a:off x="380880" y="3580920"/>
                      <a:ext cx="42663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Line 37"/>
                    <p:cNvSpPr/>
                    <p:nvPr/>
                  </p:nvSpPr>
                  <p:spPr>
                    <a:xfrm>
                      <a:off x="2513880" y="358092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5" name="Group 64"/>
                <p:cNvGrpSpPr/>
                <p:nvPr/>
              </p:nvGrpSpPr>
              <p:grpSpPr>
                <a:xfrm>
                  <a:off x="395280" y="4095360"/>
                  <a:ext cx="4266720" cy="1184040"/>
                  <a:chOff x="395280" y="4095360"/>
                  <a:chExt cx="4266720" cy="1184040"/>
                </a:xfrm>
              </p:grpSpPr>
              <p:sp>
                <p:nvSpPr>
                  <p:cNvPr id="986" name="Text Box 45"/>
                  <p:cNvSpPr/>
                  <p:nvPr/>
                </p:nvSpPr>
                <p:spPr>
                  <a:xfrm>
                    <a:off x="1313640" y="4095360"/>
                    <a:ext cx="2079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ccounts Receivabl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7" name="Group 46"/>
                  <p:cNvGrpSpPr/>
                  <p:nvPr/>
                </p:nvGrpSpPr>
                <p:grpSpPr>
                  <a:xfrm>
                    <a:off x="395280" y="4552560"/>
                    <a:ext cx="4266720" cy="726840"/>
                    <a:chOff x="395280" y="4552560"/>
                    <a:chExt cx="4266720" cy="726840"/>
                  </a:xfrm>
                </p:grpSpPr>
                <p:sp>
                  <p:nvSpPr>
                    <p:cNvPr id="988" name="Line 47"/>
                    <p:cNvSpPr/>
                    <p:nvPr/>
                  </p:nvSpPr>
                  <p:spPr>
                    <a:xfrm>
                      <a:off x="395280" y="4552560"/>
                      <a:ext cx="42667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Line 48"/>
                    <p:cNvSpPr/>
                    <p:nvPr/>
                  </p:nvSpPr>
                  <p:spPr>
                    <a:xfrm>
                      <a:off x="2528640" y="4552560"/>
                      <a:ext cx="0" cy="72684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0" name="Text Box 49"/>
              <p:cNvSpPr/>
              <p:nvPr/>
            </p:nvSpPr>
            <p:spPr>
              <a:xfrm>
                <a:off x="46080" y="4800240"/>
                <a:ext cx="4754520" cy="10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00200"/>
                    <a:tab algn="l" pos="2049480"/>
                    <a:tab algn="dec" pos="3773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Bal.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72,458.          Jan. 3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66cc"/>
                    </a:solidFill>
                    <a:latin typeface="Arial"/>
                  </a:rPr>
                  <a:t>   462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" name="Text Box 5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Picture 60" descr="D:\C21 PowerPoint\Multi_Journal\art for blue\Ch20\Ch20-02d.jpg"/>
          <p:cNvPicPr/>
          <p:nvPr/>
        </p:nvPicPr>
        <p:blipFill>
          <a:blip r:embed="rId1"/>
          <a:srcRect l="3448" t="0" r="0" b="85282"/>
          <a:stretch/>
        </p:blipFill>
        <p:spPr>
          <a:xfrm>
            <a:off x="457200" y="5562720"/>
            <a:ext cx="670572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804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66"/>
                </a:solidFill>
                <a:latin typeface="Rockwell"/>
              </a:rPr>
              <a:t>POSTING ENTRIES FOR COLLECTING A WRITTEN-OFF ACCOUNT RECEIVABLE</a:t>
            </a:r>
            <a:endParaRPr b="0" lang="en-US" sz="30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94" name="Picture 4" descr="D:\C21 PowerPoint\Multi_Journal\art for blue\Ch20\Ch20-02e.jpg"/>
          <p:cNvPicPr/>
          <p:nvPr/>
        </p:nvPicPr>
        <p:blipFill>
          <a:blip r:embed="rId1"/>
          <a:srcRect l="13349" t="0" r="0" b="29963"/>
          <a:stretch/>
        </p:blipFill>
        <p:spPr>
          <a:xfrm>
            <a:off x="76320" y="1371600"/>
            <a:ext cx="5127480" cy="541980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5"/>
          <p:cNvSpPr/>
          <p:nvPr/>
        </p:nvSpPr>
        <p:spPr>
          <a:xfrm>
            <a:off x="7344360" y="64000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2, page 5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7"/>
          <p:cNvSpPr/>
          <p:nvPr/>
        </p:nvSpPr>
        <p:spPr>
          <a:xfrm>
            <a:off x="1165320" y="5334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b14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20"/>
          <p:cNvGrpSpPr/>
          <p:nvPr/>
        </p:nvGrpSpPr>
        <p:grpSpPr>
          <a:xfrm>
            <a:off x="3124080" y="5715000"/>
            <a:ext cx="762120" cy="838080"/>
            <a:chOff x="3124080" y="5715000"/>
            <a:chExt cx="762120" cy="838080"/>
          </a:xfrm>
        </p:grpSpPr>
        <p:sp>
          <p:nvSpPr>
            <p:cNvPr id="998" name="Line 14"/>
            <p:cNvSpPr/>
            <p:nvPr/>
          </p:nvSpPr>
          <p:spPr>
            <a:xfrm flipV="1">
              <a:off x="3124080" y="5715000"/>
              <a:ext cx="76212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Oval 8"/>
            <p:cNvSpPr/>
            <p:nvPr/>
          </p:nvSpPr>
          <p:spPr>
            <a:xfrm>
              <a:off x="3352680" y="59436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24"/>
          <p:cNvGrpSpPr/>
          <p:nvPr/>
        </p:nvGrpSpPr>
        <p:grpSpPr>
          <a:xfrm>
            <a:off x="2742840" y="2133720"/>
            <a:ext cx="1676880" cy="2286000"/>
            <a:chOff x="2742840" y="2133720"/>
            <a:chExt cx="1676880" cy="2286000"/>
          </a:xfrm>
        </p:grpSpPr>
        <p:grpSp>
          <p:nvGrpSpPr>
            <p:cNvPr id="1001" name="Group 19"/>
            <p:cNvGrpSpPr/>
            <p:nvPr/>
          </p:nvGrpSpPr>
          <p:grpSpPr>
            <a:xfrm>
              <a:off x="3429000" y="2209680"/>
              <a:ext cx="990720" cy="2210040"/>
              <a:chOff x="3429000" y="2209680"/>
              <a:chExt cx="990720" cy="2210040"/>
            </a:xfrm>
          </p:grpSpPr>
          <p:sp>
            <p:nvSpPr>
              <p:cNvPr id="1002" name="Line 17"/>
              <p:cNvSpPr/>
              <p:nvPr/>
            </p:nvSpPr>
            <p:spPr>
              <a:xfrm flipH="1">
                <a:off x="3429000" y="2209680"/>
                <a:ext cx="990720" cy="22100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9"/>
              <p:cNvSpPr/>
              <p:nvPr/>
            </p:nvSpPr>
            <p:spPr>
              <a:xfrm>
                <a:off x="396252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2b14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23"/>
            <p:cNvGrpSpPr/>
            <p:nvPr/>
          </p:nvGrpSpPr>
          <p:grpSpPr>
            <a:xfrm>
              <a:off x="2742840" y="2133720"/>
              <a:ext cx="1219320" cy="1066680"/>
              <a:chOff x="2742840" y="2133720"/>
              <a:chExt cx="1219320" cy="1066680"/>
            </a:xfrm>
          </p:grpSpPr>
          <p:sp>
            <p:nvSpPr>
              <p:cNvPr id="1005" name="Line 15"/>
              <p:cNvSpPr/>
              <p:nvPr/>
            </p:nvSpPr>
            <p:spPr>
              <a:xfrm flipH="1">
                <a:off x="2742840" y="2133720"/>
                <a:ext cx="121932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6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2b14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Group 22"/>
          <p:cNvGrpSpPr/>
          <p:nvPr/>
        </p:nvGrpSpPr>
        <p:grpSpPr>
          <a:xfrm>
            <a:off x="3580920" y="2133720"/>
            <a:ext cx="533880" cy="3352680"/>
            <a:chOff x="3580920" y="2133720"/>
            <a:chExt cx="533880" cy="3352680"/>
          </a:xfrm>
        </p:grpSpPr>
        <p:sp>
          <p:nvSpPr>
            <p:cNvPr id="1008" name="Line 16"/>
            <p:cNvSpPr/>
            <p:nvPr/>
          </p:nvSpPr>
          <p:spPr>
            <a:xfrm flipH="1">
              <a:off x="3580920" y="2133720"/>
              <a:ext cx="381240" cy="3352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Oval 21"/>
            <p:cNvSpPr/>
            <p:nvPr/>
          </p:nvSpPr>
          <p:spPr>
            <a:xfrm>
              <a:off x="3733920" y="2438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2b14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Text Box 13"/>
          <p:cNvSpPr/>
          <p:nvPr/>
        </p:nvSpPr>
        <p:spPr>
          <a:xfrm>
            <a:off x="5086440" y="30733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general journal entry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5086440" y="37418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op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2"/>
          <p:cNvSpPr/>
          <p:nvPr/>
        </p:nvSpPr>
        <p:spPr>
          <a:xfrm>
            <a:off x="5086440" y="44197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cash receipts journal entry to customer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5086440" y="2411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ost general journal entry to general led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7:50:47Z</dcterms:created>
  <dc:creator>Mary Colleen McLaughlin</dc:creator>
  <dc:description/>
  <dc:language>en-US</dc:language>
  <cp:lastModifiedBy>David Combs</cp:lastModifiedBy>
  <dcterms:modified xsi:type="dcterms:W3CDTF">2011-10-03T19:48:05Z</dcterms:modified>
  <cp:revision>66</cp:revision>
  <dc:subject/>
  <dc:title>ADJUSTING ENTRY FOR SUPPLIES</dc:title>
</cp:coreProperties>
</file>